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F2C3E-C6BE-45E8-81C3-80A2AEED8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88E3-96EB-4B17-8741-3A847421C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2DEF9-491F-4144-A80A-141450737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4EC3A-51F0-441B-B294-BA0CE24B5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63790-980E-42AF-ADDC-88839E437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AD66B-80D5-45D5-BD94-7388C43E7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0ECF7-F6B3-4A7B-A17D-B5C293AD9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5B59D-3657-43DF-BBD4-AB138798A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ED88C-185D-431E-8A11-ACBB4B86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AA748-DA42-43CE-8868-206638F41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7DE3-1062-42B1-B060-6D206CFAA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0181-4238-455B-A023-C226ACF6D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04A4-37B4-4FBE-9EB8-525B0D901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2666880"/>
            <a:ext cx="518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ive fabulous creatur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867280" y="5334120"/>
            <a:ext cx="930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4708440" y="493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3277440" y="533520"/>
            <a:ext cx="239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Fairy Armad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3048120" y="914400"/>
            <a:ext cx="2857320" cy="2143080"/>
          </a:xfrm>
          <a:prstGeom prst="rect">
            <a:avLst/>
          </a:prstGeom>
          <a:ln w="0">
            <a:noFill/>
          </a:ln>
        </p:spPr>
      </p:pic>
      <p:sp>
        <p:nvSpPr>
          <p:cNvPr id="46" name=""/>
          <p:cNvSpPr/>
          <p:nvPr/>
        </p:nvSpPr>
        <p:spPr>
          <a:xfrm>
            <a:off x="1447920" y="3962160"/>
            <a:ext cx="685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Fairy Armadillo burrows small holes near ant colonies in dry dirt. It feeds mainly on ants and ant larvae near its burrow. Occasionally it feeds on worms, snails, insects and larvae, or various plant and root material.  It is the smallest spec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867280" y="5334120"/>
            <a:ext cx="930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 name=""/>
          <p:cNvSpPr/>
          <p:nvPr/>
        </p:nvSpPr>
        <p:spPr>
          <a:xfrm>
            <a:off x="4708440" y="493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9" name=""/>
          <p:cNvSpPr/>
          <p:nvPr/>
        </p:nvSpPr>
        <p:spPr>
          <a:xfrm>
            <a:off x="3277440" y="533520"/>
            <a:ext cx="239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Fairy Armad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3048120" y="914400"/>
            <a:ext cx="2857320" cy="2143080"/>
          </a:xfrm>
          <a:prstGeom prst="rect">
            <a:avLst/>
          </a:prstGeom>
          <a:ln w="0">
            <a:noFill/>
          </a:ln>
        </p:spPr>
      </p:pic>
      <p:sp>
        <p:nvSpPr>
          <p:cNvPr id="51" name=""/>
          <p:cNvSpPr/>
          <p:nvPr/>
        </p:nvSpPr>
        <p:spPr>
          <a:xfrm>
            <a:off x="1447920" y="3962160"/>
            <a:ext cx="685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Fairy Armadillo burrows small holes near ant colonies in dry dirt. It feeds mainly on ants and ant larvae near its burrow. Occasionally it feeds on worms, snails, insects and larvae, or various plant and root material.  It is the smallest spec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867280" y="5334120"/>
            <a:ext cx="930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4708440" y="493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3277440" y="533520"/>
            <a:ext cx="239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Fairy Armad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3048120" y="914400"/>
            <a:ext cx="2857320" cy="2143080"/>
          </a:xfrm>
          <a:prstGeom prst="rect">
            <a:avLst/>
          </a:prstGeom>
          <a:ln w="0">
            <a:noFill/>
          </a:ln>
        </p:spPr>
      </p:pic>
      <p:sp>
        <p:nvSpPr>
          <p:cNvPr id="56" name=""/>
          <p:cNvSpPr/>
          <p:nvPr/>
        </p:nvSpPr>
        <p:spPr>
          <a:xfrm>
            <a:off x="1295280" y="3962160"/>
            <a:ext cx="7162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Fairy Armadillo burrows small holes near ant colonies in dry dirt. It feeds mainly on ants and ant larvae near its burrow. Occasionally it feeds on worms, snails, insects and larvae, or various plant and root material.  It is the smallest species of armadi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8:22:52Z</dcterms:created>
  <dc:creator>.</dc:creator>
  <dc:description/>
  <dc:language>en-US</dc:language>
  <cp:lastModifiedBy>.</cp:lastModifiedBy>
  <dcterms:modified xsi:type="dcterms:W3CDTF">2011-11-16T18:32:45Z</dcterms:modified>
  <cp:revision>2</cp:revision>
  <dc:subject/>
  <dc:title>Slide 1</dc:title>
</cp:coreProperties>
</file>